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92E-DE59-4343-AF7C-217D43BB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586F-B0BE-4D29-B785-8E8AD583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CFE-B29D-42D3-8C5C-5BF4E5DF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E0E-0EB5-430A-9BE7-8643FD0B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F63D-7C6F-4254-9E1B-4B872501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C62F-806E-4A74-8C53-EC5FFEB3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3691-0731-419B-995D-DA4B052F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CC54-5BBC-4ECF-BEC9-B0BD0F06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A8D6-37A7-4F47-A583-203F4071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0EAD-BFA1-4FC0-9FBA-B04EEAB0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7AC0-87BF-4CAA-ACA4-1428E86E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123-4E95-4E5E-B8D4-C973F7D6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C4B1-7328-421E-8E0D-86C7758E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0578-B606-4588-A37B-FC9B4927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2A6A-74E3-42F3-B434-9C19481B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95EB-824C-4DE8-A314-8543CAC7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CFBA-C943-45EE-BF08-560E78D0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D30-11D2-4A6A-81D6-54211893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0E4-9EE9-48E8-8125-C6EA9BB5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A8AC-D0EE-4B07-B052-101D9B77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1CC-7A62-4B29-8DCE-570F3E67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067E-3406-443C-B584-1E122306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CC2-B36F-4556-863E-AD4C0E52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E2E-F504-470A-BF08-979295E8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3215-1C2E-4F78-8D59-D75790F46F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3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Using a Compas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47FF-85DC-4943-A0BD-E0DE7FF6C6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kompass2"/>
          <p:cNvPicPr/>
          <p:nvPr/>
        </p:nvPicPr>
        <p:blipFill>
          <a:blip r:embed="rId1"/>
          <a:stretch/>
        </p:blipFill>
        <p:spPr>
          <a:xfrm>
            <a:off x="0" y="6192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Using a Compas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compassparts"/>
          <p:cNvPicPr/>
          <p:nvPr/>
        </p:nvPicPr>
        <p:blipFill>
          <a:blip r:embed="rId1"/>
          <a:stretch/>
        </p:blipFill>
        <p:spPr>
          <a:xfrm>
            <a:off x="-6172200" y="5943600"/>
            <a:ext cx="5943600" cy="487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3124080" y="1447920"/>
            <a:ext cx="5486400" cy="51879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09480" y="3352680"/>
            <a:ext cx="2971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Parts of a compas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compasshand2"/>
          <p:cNvPicPr/>
          <p:nvPr/>
        </p:nvPicPr>
        <p:blipFill>
          <a:blip r:embed="rId1"/>
          <a:stretch/>
        </p:blipFill>
        <p:spPr>
          <a:xfrm>
            <a:off x="3581280" y="16002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ompasshand"/>
          <p:cNvPicPr/>
          <p:nvPr/>
        </p:nvPicPr>
        <p:blipFill>
          <a:blip r:embed="rId2"/>
          <a:stretch/>
        </p:blipFill>
        <p:spPr>
          <a:xfrm>
            <a:off x="4800600" y="3886200"/>
            <a:ext cx="3657600" cy="2495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0" name="Text Box 4"/>
          <p:cNvSpPr/>
          <p:nvPr/>
        </p:nvSpPr>
        <p:spPr>
          <a:xfrm>
            <a:off x="762120" y="2133720"/>
            <a:ext cx="26668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a3c145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Hold the compass parallel to the ground in your open h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ing A Compa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9400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he red point of the arrow is pointing north.  Turn your body until the red arrow is pointing to N on the compass.  You are now facing north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93" name="Picture 9" descr="compass4"/>
          <p:cNvPicPr/>
          <p:nvPr/>
        </p:nvPicPr>
        <p:blipFill>
          <a:blip r:embed="rId1"/>
          <a:srcRect l="0" t="0" r="2398" b="2398"/>
          <a:stretch/>
        </p:blipFill>
        <p:spPr>
          <a:xfrm>
            <a:off x="5257800" y="2057400"/>
            <a:ext cx="29750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1200000"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3" descr="a10350"/>
          <p:cNvPicPr/>
          <p:nvPr/>
        </p:nvPicPr>
        <p:blipFill>
          <a:blip r:embed="rId1"/>
          <a:stretch/>
        </p:blipFill>
        <p:spPr>
          <a:xfrm>
            <a:off x="4419720" y="1981080"/>
            <a:ext cx="4095720" cy="29019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80808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ing A Compa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n your GLOBE compass, turn the entire compass until the red needle aligns with the red arrow. (Put the “red” in the “shed”)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Line 10"/>
          <p:cNvSpPr/>
          <p:nvPr/>
        </p:nvSpPr>
        <p:spPr>
          <a:xfrm flipH="1" flipV="1">
            <a:off x="6629040" y="3200040"/>
            <a:ext cx="609480" cy="2514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400800" y="5715000"/>
            <a:ext cx="2438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“She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5604120" cy="3543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a10350"/>
          <p:cNvPicPr/>
          <p:nvPr/>
        </p:nvPicPr>
        <p:blipFill>
          <a:blip r:embed="rId2"/>
          <a:srcRect l="10907" t="0" r="3639" b="0"/>
          <a:stretch/>
        </p:blipFill>
        <p:spPr>
          <a:xfrm>
            <a:off x="0" y="3352680"/>
            <a:ext cx="3581280" cy="2970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ing A Compa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95480" y="1599840"/>
            <a:ext cx="3432240" cy="685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o set a bearing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828800" y="594360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Turn this until the “red is in the shed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13"/>
          <p:cNvSpPr/>
          <p:nvPr/>
        </p:nvSpPr>
        <p:spPr>
          <a:xfrm flipV="1">
            <a:off x="3200400" y="533376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5715000" y="3200400"/>
            <a:ext cx="12952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5715000" y="4495680"/>
            <a:ext cx="1905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2895480" y="4191120"/>
            <a:ext cx="1752840" cy="3045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12"/>
          <p:cNvSpPr/>
          <p:nvPr/>
        </p:nvSpPr>
        <p:spPr>
          <a:xfrm flipH="1" flipV="1">
            <a:off x="1980720" y="5181120"/>
            <a:ext cx="228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243828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a10350"/>
          <p:cNvPicPr/>
          <p:nvPr/>
        </p:nvPicPr>
        <p:blipFill>
          <a:blip r:embed="rId1"/>
          <a:srcRect l="8456" t="0" r="0" b="0"/>
          <a:stretch/>
        </p:blipFill>
        <p:spPr>
          <a:xfrm>
            <a:off x="4191120" y="1905120"/>
            <a:ext cx="4952880" cy="3833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ing A Compa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ad the bearing (aspect) from the dial, at the base of the arrow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477120" y="55627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ahoma"/>
              </a:rPr>
              <a:t>Read he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9"/>
          <p:cNvSpPr/>
          <p:nvPr/>
        </p:nvSpPr>
        <p:spPr>
          <a:xfrm flipH="1" flipV="1">
            <a:off x="7162560" y="3352320"/>
            <a:ext cx="75960" cy="2133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ing A Compa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6520" cy="1523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actice facing each direction.  First face the cardinal directions:  north, south, east, and west.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17" name="Group 18"/>
          <p:cNvGrpSpPr/>
          <p:nvPr/>
        </p:nvGrpSpPr>
        <p:grpSpPr>
          <a:xfrm>
            <a:off x="2666880" y="2743200"/>
            <a:ext cx="3733920" cy="3568680"/>
            <a:chOff x="2666880" y="2743200"/>
            <a:chExt cx="3733920" cy="3568680"/>
          </a:xfrm>
        </p:grpSpPr>
        <p:sp>
          <p:nvSpPr>
            <p:cNvPr id="118" name="Oval 11"/>
            <p:cNvSpPr/>
            <p:nvPr/>
          </p:nvSpPr>
          <p:spPr>
            <a:xfrm>
              <a:off x="3276720" y="3276720"/>
              <a:ext cx="2286000" cy="228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Line 12"/>
            <p:cNvSpPr/>
            <p:nvPr/>
          </p:nvSpPr>
          <p:spPr>
            <a:xfrm>
              <a:off x="4419720" y="320040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Line 13"/>
            <p:cNvSpPr/>
            <p:nvPr/>
          </p:nvSpPr>
          <p:spPr>
            <a:xfrm>
              <a:off x="3200400" y="44197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14"/>
            <p:cNvSpPr/>
            <p:nvPr/>
          </p:nvSpPr>
          <p:spPr>
            <a:xfrm>
              <a:off x="419112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4191120" y="5791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Text Box 16"/>
            <p:cNvSpPr/>
            <p:nvPr/>
          </p:nvSpPr>
          <p:spPr>
            <a:xfrm>
              <a:off x="5715000" y="4114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Text Box 17"/>
            <p:cNvSpPr/>
            <p:nvPr/>
          </p:nvSpPr>
          <p:spPr>
            <a:xfrm>
              <a:off x="2666880" y="4114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ing A Compa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5652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hen face the midpoints:  northeast, northwest, southeast, and southwest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2666880" y="2743200"/>
            <a:ext cx="3733920" cy="3568680"/>
            <a:chOff x="2666880" y="2743200"/>
            <a:chExt cx="3733920" cy="3568680"/>
          </a:xfrm>
        </p:grpSpPr>
        <p:sp>
          <p:nvSpPr>
            <p:cNvPr id="128" name="Oval 5"/>
            <p:cNvSpPr/>
            <p:nvPr/>
          </p:nvSpPr>
          <p:spPr>
            <a:xfrm>
              <a:off x="3276720" y="3276720"/>
              <a:ext cx="2286000" cy="228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Line 6"/>
            <p:cNvSpPr/>
            <p:nvPr/>
          </p:nvSpPr>
          <p:spPr>
            <a:xfrm>
              <a:off x="4419720" y="320040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Line 7"/>
            <p:cNvSpPr/>
            <p:nvPr/>
          </p:nvSpPr>
          <p:spPr>
            <a:xfrm>
              <a:off x="3200400" y="44197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419112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Text Box 9"/>
            <p:cNvSpPr/>
            <p:nvPr/>
          </p:nvSpPr>
          <p:spPr>
            <a:xfrm>
              <a:off x="4191120" y="5791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5715000" y="4114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Text Box 11"/>
            <p:cNvSpPr/>
            <p:nvPr/>
          </p:nvSpPr>
          <p:spPr>
            <a:xfrm>
              <a:off x="2666880" y="4114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Text Box 12"/>
          <p:cNvSpPr/>
          <p:nvPr/>
        </p:nvSpPr>
        <p:spPr>
          <a:xfrm>
            <a:off x="5486400" y="3200400"/>
            <a:ext cx="83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5414400" y="5257800"/>
            <a:ext cx="573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2724120" y="3200400"/>
            <a:ext cx="781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N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2665440" y="5181480"/>
            <a:ext cx="706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S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5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5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9:12:55Z</dcterms:created>
  <dc:creator>Jerry Cobbs</dc:creator>
  <dc:description/>
  <dc:language>en-US</dc:language>
  <cp:lastModifiedBy>lfowler</cp:lastModifiedBy>
  <dcterms:modified xsi:type="dcterms:W3CDTF">2011-07-15T19:19:09Z</dcterms:modified>
  <cp:revision>5</cp:revision>
  <dc:subject/>
  <dc:title>Using a Comp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